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48C1-B5A9-46A1-A246-DCD02E263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5EEF-8CB5-48BB-A6E6-31659B920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484F-DF66-45FE-8E49-98996D022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7E92-4360-4C03-8BDF-540CD0E18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7F9295-534F-45E5-9900-7FF54670F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9B90BC-66E2-41EF-86EE-D46348CE5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A5B1AD-AA93-420D-A835-939A45BE5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EE0B80-286D-41F4-AB7C-2BB168EC7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5A10B7-E52A-4098-A948-E9D8D274C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235338-FE39-4415-A50E-B16598E14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EDEB3B-A25D-4EBB-BDB2-AAA5A1572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DC5C-4FC1-42C3-BDA4-F1F444FC4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516C45-3BE4-40E8-980A-F7D612140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EB2096-D1A7-46AE-B8CC-A260C2173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1423CC-570B-46B0-A51F-C91AE2692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A25DD4-DE6A-4435-9C7E-9675E9DCF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34671B-27E6-4212-B3F0-F4572C351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420C-D5EB-4D47-9D9B-576564818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0828-6C38-4CD7-8B5C-7313E055A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34B2-D293-4FF8-9527-0C88DF120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6C84-8787-437A-8A69-A8977A631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D396-C65F-46F5-B044-217D10DC0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A324-5445-416F-8A20-BCE52E75D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B136-3126-4331-888D-E0D9D90D3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17D38-98A5-4DF4-8573-6BF98B71C7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ED728-8080-4C59-86DB-3A2CE5487B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133720" y="1676520"/>
            <a:ext cx="4952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Murray River Maintenance Management Pla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52488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752480" y="685800"/>
            <a:ext cx="6400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ahoma"/>
              </a:rPr>
              <a:t>Murray River Maintenance Management Plan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5029200" y="2971800"/>
            <a:ext cx="7086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762120"/>
            <a:ext cx="8001000" cy="37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urrent Situ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Farming and irrigation is consuming too much wa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Climate change leading to reduced rainfall and drough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There is not enough water in the river to sustain marine     life and natural vege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The river has high levels of chemicals from fertiliz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09680" y="533520"/>
            <a:ext cx="5105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esired Outcom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143000" y="1828800"/>
            <a:ext cx="7620120" cy="27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creased amount of water flowing in ri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Improved water quality in ri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Sustained marine life and regeneration of vegetation along our river ban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Sustainable farm produ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533520" y="685800"/>
            <a:ext cx="84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roposed Action and Guidelin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04920" y="1447920"/>
            <a:ext cx="861048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Public education on water u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Better and more efficient irrigation syst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Government buying water from farm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Building pipelines to reduce evapo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Research into better farming e.g. crops requiring much less wa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Use of more eco friendly fertiliz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Introduce and encourage less damaging tourist explo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1:55:06Z</dcterms:created>
  <dc:creator>aidan.riga</dc:creator>
  <dc:description/>
  <dc:language>en-US</dc:language>
  <cp:lastModifiedBy>aidan.riga</cp:lastModifiedBy>
  <dcterms:modified xsi:type="dcterms:W3CDTF">2009-04-09T03:14:17Z</dcterms:modified>
  <cp:revision>2</cp:revision>
  <dc:subject/>
  <dc:title>Slide 1</dc:title>
</cp:coreProperties>
</file>